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D28-13F9-41AE-AB17-80C568A8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EF7-782B-4888-8AC0-8F310D0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15F-70DB-43F8-B541-F71321B2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2DF-D0DC-440C-8DFC-C3512D4D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727-C212-464C-9679-537EBBF8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81CC-1F0E-434F-8521-E699F60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DA36-0059-47F5-8D40-8A33D8B8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982C-DF18-4B2B-A6D9-F31FE20A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3F12-C27B-4608-A677-916F646C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7105-B799-4229-A551-84FE7F7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687-0C9A-4914-BE96-A6D9875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7AB-997B-4FFF-B8B7-A057F507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4B7B-0F5F-41F0-8247-3042C38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C2B8-B8B0-4205-974D-F2A1799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1C20-B974-4A03-BAFD-F05B205E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90FE-D6CE-472E-AA56-512ED83C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65E0-A901-4797-AEBD-B0DD4E36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82F-944A-4D3E-9D50-3E154B10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344-87BF-47A9-A0E1-EAD14B9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BEB-EB17-4C54-A7B4-E25B1180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6FE-C14C-4B50-926D-ABA7C17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D88-46AD-4E7E-B9E2-E29DCAA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94E-BC32-419C-A966-395AEDD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17B-96A8-428A-AB03-E74C165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A940-57E1-40A6-804C-A17CD3565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45B5-8478-4AD3-8309-3EBAF85A9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rcot.com/content/meetings/cops/keydocs/2008/0610/06._Extract_&amp;_Report_Incident_Log.xls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rcot.com/content/mktrules/issues/lpgrr/025049/029/keydocs/029LPGRR05_PWG_Recommendation_Report_052808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June 26,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Highlights of May 12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COPS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an Munson Presented a Review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RCOT Meeting Facility 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of Market Working Group and Task Force support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general guidelines for Working Groups and Task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responsibilities of ERCOT Working Group/Task Force Meeting Facilitator and ERCOT Meeting S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tinue developing nodal Sections in the COPM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draft COPMGRR for a new Section, Organizational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draft COPMGRR for an updated Appendix A, Market Notice Communication Process for Outages and Processing Imp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ing draft of section covering Congestion Revenue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a schedule of assignments and completion dates for Nodal Market Changes to the gu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EWG / SDAWG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ata Extract SLA was discussed and final comments were incorporated into the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discussion, COPS participants approved the SLA and Incident reporting log (spreadsheet) for tracking Data Extract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ercot.com/content/meetings/cops/keydocs/2008/0610/06._Extract_&amp;_Report_Incident_Log.x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cussed April Extract Incidents and utilized new Incident Report to facilitate discuss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key incident was the database failure of April 21 that created an out-of-sync issue with multiple extr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RCOT continues the restoration process as delays continue to date and notices are published dail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 – Advanced Me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 Rule (wholesale settl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346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sale Settlement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d Deployment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 is to find consensus on implementation of the Advanced Metering R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gnificant work on web portal, other pro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W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d an update regarding “Round 2 Sample Point Installation Track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cent complete new installatio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@ May 28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78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installations + retained sample points = 85.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 Draft PR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65 “Time of Use Revisions” and the LPGRR029 “Modification of Time-Of-Use Schedu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ercot.com/content/mktrules/issues/lpgrr/025049/029/keydocs/029LPGRR05_PWG_Recommendation_Report_052808.d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the proposed PRR and we have filed our support to 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LPGRR029 and will recommend approval to TAC when PRR765 is consid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LPGRR029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ification of Time-Of-Use Schedule Approval Proc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Recommends to TAC Approval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PGRR0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ing TAC Table Action and Consider COPS Recommendation When PRR 756 is presented for consideration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6-17T16:11:43Z</dcterms:modified>
  <cp:revision>24</cp:revision>
  <dc:subject/>
  <dc:title>Slide 1</dc:title>
</cp:coreProperties>
</file>